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4e63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A0200F-E240-4EEC-BBEB-C4EF145BAC5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lide proposed by EM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lide proposed by EM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lide proposed by EM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lide proposed by EM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4578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704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000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36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000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04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360" y="4578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04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236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0000" y="234936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436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236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0000" y="4578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7040" y="4578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040" y="234936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578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087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4e63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24e6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324e6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324e6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324e6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324e6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4e63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4008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8534520" y="6324480"/>
            <a:ext cx="533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1CA9F5-558D-4737-8B92-26F052705564}" type="slidenum">
              <a:rPr b="0" lang="en-US" sz="1000" spc="-1" strike="noStrike">
                <a:solidFill>
                  <a:srgbClr val="16489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115920"/>
            <a:ext cx="5184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uropean Union</a:t>
            </a:r>
            <a:br>
              <a:rPr sz="14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gional Policy – Employment, Social Affairs and Inclu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812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0875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24480" y="2286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-76320" y="938160"/>
            <a:ext cx="9296640" cy="3571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rcRect l="2200" t="4550" r="21996" b="9450"/>
          <a:stretch/>
        </p:blipFill>
        <p:spPr>
          <a:xfrm>
            <a:off x="179280" y="189000"/>
            <a:ext cx="1079640" cy="69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8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087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8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2286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74520" y="938160"/>
            <a:ext cx="9296280" cy="35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29320" y="642780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522474-2212-4AF3-A39B-C4347CBB309A}" type="slidenum">
              <a:rPr b="0" lang="en-US" sz="1000" spc="-1" strike="noStrike">
                <a:solidFill>
                  <a:srgbClr val="16489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28600"/>
            <a:ext cx="525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rcRect l="2200" t="4550" r="21996" b="9450"/>
          <a:stretch/>
        </p:blipFill>
        <p:spPr>
          <a:xfrm>
            <a:off x="179280" y="189000"/>
            <a:ext cx="1079640" cy="69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3500280"/>
            <a:ext cx="8137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50000"/>
              </a:lnSpc>
              <a:spcBef>
                <a:spcPts val="601"/>
              </a:spcBef>
              <a:buClr>
                <a:srgbClr val="16489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Η Πολιτική Συνοχής</a:t>
            </a:r>
            <a:r>
              <a:rPr b="1" lang="en-GB" sz="2400" spc="-1" strike="noStrike">
                <a:solidFill>
                  <a:srgbClr val="16489f"/>
                </a:solidFill>
                <a:latin typeface="Myriad Pro Black SemiCond"/>
              </a:rPr>
              <a:t> 2000-2006</a:t>
            </a: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 και 2007-2013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150000"/>
              </a:lnSpc>
              <a:spcBef>
                <a:spcPts val="601"/>
              </a:spcBef>
              <a:buClr>
                <a:srgbClr val="16489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Περιφερειακές ανισότητες </a:t>
            </a:r>
            <a:r>
              <a:rPr b="1" lang="en-US" sz="24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1" lang="el-GR" sz="2400" spc="-1" strike="noStrike">
                <a:solidFill>
                  <a:srgbClr val="16489f"/>
                </a:solidFill>
                <a:latin typeface="Arial"/>
                <a:ea typeface="Arial"/>
              </a:rPr>
              <a:t> μειωμένες αλλά …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150000"/>
              </a:lnSpc>
              <a:spcBef>
                <a:spcPts val="601"/>
              </a:spcBef>
              <a:buClr>
                <a:srgbClr val="16489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Προοπτικές για την Πολιτική Συνοχής</a:t>
            </a:r>
            <a:r>
              <a:rPr b="1" lang="en-GB" sz="2400" spc="-1" strike="noStrike">
                <a:solidFill>
                  <a:srgbClr val="16489f"/>
                </a:solidFill>
                <a:latin typeface="Myriad Pro Black SemiCond"/>
              </a:rPr>
              <a:t> </a:t>
            </a: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μετά από το </a:t>
            </a:r>
            <a:r>
              <a:rPr b="1" lang="en-GB" sz="2400" spc="-1" strike="noStrike">
                <a:solidFill>
                  <a:srgbClr val="16489f"/>
                </a:solidFill>
                <a:latin typeface="Myriad Pro Black SemiCond"/>
              </a:rPr>
              <a:t>2013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8428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16489f"/>
                </a:solidFill>
                <a:latin typeface="Myriad Pro"/>
              </a:rPr>
              <a:t>Η ΕΕ στο δρόμο για μια νέα Πολιτική Συνοχής για να ανταποκριθε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16489f"/>
                </a:solidFill>
                <a:latin typeface="Myriad Pro"/>
              </a:rPr>
              <a:t>στις προκλήσεις της νέας δεκαετία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-36360" y="119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Ελλάδα 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θέματα εφαρμογής και αποτελεσματικότητα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989000"/>
            <a:ext cx="799308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276640"/>
            <a:ext cx="8353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0000"/>
                </a:solidFill>
                <a:latin typeface="Myriad Pr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Περιορισμένη αποτελεσματικότητα δράσεων στον τομέα της ανταγωνιστικότητας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η 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σημερινή οικονομική κρίση της χώρας είναι σε μεγάλο βαθμό και κρίση έλλειψης ανταγωνιστικότητα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Έντονες καθυστερήσεις στις αδειοδοτήσεις, προβλήματα στις προκηρύξεις δημοσίων συμβάσεων και στην υλοποίηση έργω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Πολύπλοκες και γραφειοκρατικές δομές και διαδικασίε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Ανάγκη μεγαλύτερης εμπλοκής των περιφερειών στο σχεδιασμό των παρεμβάσεων και στη λήψη αποφάσεων, με παράλληλη βελτίωση της διαχειριστικής ικανότητας των τελικών δικαιούχω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-36360" y="119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Ελλάδα 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΄Εργα προτεραιότητα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989000"/>
            <a:ext cx="799308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276640"/>
            <a:ext cx="8353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0000"/>
                </a:solidFill>
                <a:latin typeface="Myriad Pr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Verdana"/>
              </a:rPr>
              <a:t>Ως επιστέγασμα μιας μακράς διαδικασίας διαβουλεύσεων μεταξύ Επιτροπής και ελληνικών αρχών, στις 28 Νοεμβρίου 2011, επισημοποιήθηκε, μεταξύ του Επιτρόπου κ. 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Johannes Hahn </a:t>
            </a:r>
            <a:r>
              <a:rPr b="0" lang="el-GR" sz="2000" spc="-1" strike="noStrike">
                <a:solidFill>
                  <a:srgbClr val="000099"/>
                </a:solidFill>
                <a:latin typeface="Verdana"/>
              </a:rPr>
              <a:t>και των Περιφερειαρχών  και Δημάρχων μεγάλων πόλεων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99"/>
                </a:solidFill>
                <a:latin typeface="Verdana"/>
              </a:rPr>
              <a:t> μια λίστα με έργα προτεραιότητας, συγχρηματοδοτούμενων από το ΕΤΠΑ και/ή το ΤΑ, υψηλής ποιότητας και προστιθέμενης αξίας ικανά να συνεισφέρουν στους στόχους της ανάπτυξης και της δημιουργίας/διατήρησης θέσεων εργασίας στην ελληνική επικράτεια, που θα πρέπει να ολοκληρωθούν το αργότερο έως τις 31/12/2015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Μπορείτε να τα βρείτε στο </a:t>
            </a:r>
            <a:r>
              <a:rPr b="0" lang="en-US" sz="1600" spc="-1" strike="noStrike">
                <a:solidFill>
                  <a:srgbClr val="324e63"/>
                </a:solidFill>
                <a:latin typeface="Verdana"/>
              </a:rPr>
              <a:t>http://ec.europa.eu/ellada/news/news/20111129_synantisiepitropou_hahn_el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Στο διάστημα 2000</a:t>
            </a:r>
            <a:r>
              <a:rPr b="0" lang="el-GR" sz="2100" spc="-1" strike="noStrike">
                <a:solidFill>
                  <a:srgbClr val="16489f"/>
                </a:solidFill>
                <a:latin typeface="Arial"/>
              </a:rPr>
              <a:t>-</a:t>
            </a: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2008, τα ποσοστά απασχόλησης αυξήθηκαν &amp; τα ποσοστά ανεργίας μειώθηκαν στις περιφέρειες, ωστόσο η κρίση αναχαίτισε αυτή την πρόοδο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Η φτώχεια &amp; η στέρηση έχουν μια ισχυρή περιφερειακή διάσταση, καθώς επικεντρώνονται στις λιγότερο ανεπτυγμένες περιοχές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Οι επενδύσεις στην υποδομή των μεταφορών εξασφάλισαν επαρκή υποδομή για την EΕ-15, αλλά εξακολουθούν να υπάρχουν σημαντικές ελλείψεις στην EΕ-12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Απαιτούνται περισσότερες επενδύσεις ώστε να επιτευχθεί συμμόρφωση με την κοινοτική νομοθεσία για το περιβάλλον, κυρίως στην ΕΕ-12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Η κλιματική αλλαγή θα έχει ισχυρές</a:t>
            </a:r>
            <a:r>
              <a:rPr b="0" lang="el-GR" sz="2100" spc="-1" strike="noStrike">
                <a:solidFill>
                  <a:srgbClr val="16489f"/>
                </a:solidFill>
                <a:latin typeface="Arial"/>
              </a:rPr>
              <a:t> επιπτώσεις</a:t>
            </a:r>
            <a:r>
              <a:rPr b="0" lang="el-GR" sz="2100" spc="-1" strike="noStrike">
                <a:solidFill>
                  <a:srgbClr val="16489f"/>
                </a:solidFill>
                <a:latin typeface="Myriad Pro Black SemiCond"/>
              </a:rPr>
              <a:t> σε πολλές περιφέρειες, κυρίως στις νότιες και ορεινές περιοχές</a:t>
            </a: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r>
              <a:rPr b="1" lang="nl-BE" sz="32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6489f"/>
                </a:solidFill>
                <a:latin typeface="Arial"/>
              </a:rPr>
              <a:t>Οικονομικές, κοινωνικές και δημογραφικές αλλαγές στην Ευρώπη και όσον αφορά τη θέση της Ευρώπης στην παγκόσμια οικονομία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6489f"/>
              </a:buClr>
              <a:buFont typeface="Myriad Pro Black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6489f"/>
                </a:solidFill>
                <a:latin typeface="Myriad Pro Black SemiCond"/>
              </a:rPr>
              <a:t>Μια βελτιωμένη πολιτική συνοχής είναι απαραίτητη για την αντιμετώπιση αυτών των προκλήσεων στο εξής πλαίσιο:</a:t>
            </a:r>
            <a:r>
              <a:rPr b="0" lang="el-GR" sz="2000" spc="-1" strike="noStrike">
                <a:solidFill>
                  <a:srgbClr val="16489f"/>
                </a:solidFill>
                <a:latin typeface="Myriad Pro Black SemiCond"/>
              </a:rPr>
              <a:t> 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16489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16489f"/>
                </a:solidFill>
                <a:latin typeface="Myriad Pro Black SemiCond"/>
              </a:rPr>
              <a:t>Νέος προϋπολογισμός της ΕΕ για μετά το 2013 - συζητήσεις σε εξέλιξη </a:t>
            </a:r>
            <a:endParaRPr b="0" lang="en-US" sz="18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16489f"/>
                </a:solidFill>
                <a:latin typeface="Myriad Pro Black SemiCond"/>
              </a:rPr>
              <a:t>	</a:t>
            </a:r>
            <a:r>
              <a:rPr b="0" i="1" lang="el-GR" sz="1800" spc="-1" strike="noStrike">
                <a:solidFill>
                  <a:srgbClr val="16489f"/>
                </a:solidFill>
                <a:latin typeface="Myriad Pro Black SemiCond"/>
              </a:rPr>
              <a:t>Η πολιτική συνοχής σήμερα = άνω του 1/3 του συνολικού προϋπολογισμού της ΕΕ</a:t>
            </a:r>
            <a:endParaRPr b="0" lang="en-US" sz="18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8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24e63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16489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16489f"/>
                </a:solidFill>
                <a:latin typeface="Myriad Pro Black SemiCond"/>
              </a:rPr>
              <a:t>Νέοι στόχοι της ΕΕ - φιλόδοξοι στόχοι για το 2020 με σκοπό την αντιμετώπιση νέων προκλήσεων</a:t>
            </a:r>
            <a:endParaRPr b="0" lang="en-US" sz="18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endParaRPr b="0" lang="en-US" sz="28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25000"/>
              </a:lnSpc>
              <a:spcBef>
                <a:spcPts val="862"/>
              </a:spcBef>
              <a:spcAft>
                <a:spcPts val="1012"/>
              </a:spcAft>
              <a:buClr>
                <a:srgbClr val="1648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Ενίσχυση της Ευρωπαϊκής προστιθέμενης αξία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495360" indent="-495360">
              <a:lnSpc>
                <a:spcPct val="125000"/>
              </a:lnSpc>
              <a:spcBef>
                <a:spcPts val="862"/>
              </a:spcBef>
              <a:spcAft>
                <a:spcPts val="1012"/>
              </a:spcAft>
              <a:buClr>
                <a:srgbClr val="1648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Ενδυνάμωση της διακυβέρνηση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495360" indent="-495360">
              <a:lnSpc>
                <a:spcPct val="125000"/>
              </a:lnSpc>
              <a:spcBef>
                <a:spcPts val="862"/>
              </a:spcBef>
              <a:spcAft>
                <a:spcPts val="1012"/>
              </a:spcAft>
              <a:buClr>
                <a:srgbClr val="1648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Εξορθολογισμός του συστήματος εφαρμογή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495360" indent="-495360">
              <a:lnSpc>
                <a:spcPct val="125000"/>
              </a:lnSpc>
              <a:spcBef>
                <a:spcPts val="862"/>
              </a:spcBef>
              <a:spcAft>
                <a:spcPts val="1012"/>
              </a:spcAft>
              <a:buClr>
                <a:srgbClr val="1648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6489f"/>
                </a:solidFill>
                <a:latin typeface="Arial"/>
              </a:rPr>
              <a:t>Αρχιτεκτονική της πολιτικής συνοχή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r>
              <a:rPr b="1" lang="nl-BE" sz="32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6489f"/>
                </a:solidFill>
                <a:latin typeface="Arial"/>
              </a:rPr>
              <a:t>Η μελλοντική Πολιτική Συνοχής θα πρέπει να είναι πλήρως εναρμονισμένη με τους στόχους της στρατηγικής ΕΕ 2020 </a:t>
            </a:r>
            <a:r>
              <a:rPr b="0" lang="en-US" sz="24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400" spc="-1" strike="noStrike">
                <a:solidFill>
                  <a:srgbClr val="16489f"/>
                </a:solidFill>
                <a:latin typeface="Arial"/>
                <a:ea typeface="Arial"/>
              </a:rPr>
              <a:t> </a:t>
            </a:r>
            <a:r>
              <a:rPr b="1" lang="el-GR" sz="2400" spc="-1" strike="noStrike" u="sng">
                <a:solidFill>
                  <a:srgbClr val="16489f"/>
                </a:solidFill>
                <a:uFillTx/>
                <a:latin typeface="Arial"/>
                <a:ea typeface="Arial"/>
              </a:rPr>
              <a:t>έξυπνη ανάπτυξη, βιώσιμη ανάπτυξη, ανάπτυξη για όλου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r>
              <a:rPr b="1" lang="nl-BE" sz="32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Myriad Pro"/>
              </a:rPr>
              <a:t>Απασχόληση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 : 75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(20-64) – 2009: 69.1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Παιδεία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: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&lt;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10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πρόωρη εγκατάλειψη του σχολειού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– 2009: 14.4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&gt;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40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τριτοβάθμια εκπαίδευση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(30-34)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– 2009: 32.3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Καταπολέμηση φτώχειας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: </a:t>
            </a: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μείωση κατά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20 </a:t>
            </a: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εκατ.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των ατόμων σε κίνδυνο φτώχειας και κοινωνικού αποκλεισμού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– 2009: 120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εκατ.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Κλιματική αλλαγή και ενέργεια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: 20%/20%/20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εκπομπές αερίων θερμοκηπίου 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/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ανανεώσιμες πηγές ενέργειας 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/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ενεργειακή απόδοση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16489f"/>
                </a:solidFill>
                <a:latin typeface="Arial"/>
              </a:rPr>
              <a:t>Έρευνα, τεχνολογική ανάπτυξη και καινοτομία </a:t>
            </a: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: 3%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του ΑΕΠ για επενδύσεις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«RTD »</a:t>
            </a:r>
            <a:r>
              <a:rPr b="0" lang="en-GB" sz="2000" spc="-1" strike="noStrike">
                <a:solidFill>
                  <a:srgbClr val="16489f"/>
                </a:solidFill>
                <a:latin typeface="Myriad Pro"/>
              </a:rPr>
              <a:t> – 2008: 1.9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III.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Μετά το</a:t>
            </a: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 2013 : 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νέες προκλήσεις και νέοι στόχοι - η στρατηγική 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E</a:t>
            </a:r>
            <a:r>
              <a:rPr b="1" lang="el-GR" sz="2800" spc="-1" strike="noStrike">
                <a:solidFill>
                  <a:srgbClr val="16489f"/>
                </a:solidFill>
                <a:latin typeface="Arial"/>
              </a:rPr>
              <a:t>Ε</a:t>
            </a:r>
            <a:r>
              <a:rPr b="1" lang="nl-BE" sz="2800" spc="-1" strike="noStrike">
                <a:solidFill>
                  <a:srgbClr val="16489f"/>
                </a:solidFill>
                <a:latin typeface="Myriad Pro"/>
              </a:rPr>
              <a:t> 2020</a:t>
            </a:r>
            <a:r>
              <a:rPr b="1" lang="nl-BE" sz="3200" spc="-1" strike="noStrike">
                <a:solidFill>
                  <a:srgbClr val="16489f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Εστίαση των πόρων σε περιορισμένο αριθμό προτεραιοτήτων,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σε εφαρμογή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των στόχων ΕΕ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2020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καινοτόμες δράσεις στις περιφέρειες, έμφαση στην εκπαίδευση και επαγγελματική κατάρτιση, τα βασικά διευρωπαϊκά δίκτυα μεταφορών και ενέργειας, σεβασμός κοινοτικής νομοθεσίας για το περιβάλλον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Τρεις κατηγορίες περιφερειών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αναπτυγμένες, ενδιάμεσες, λιγότερο αναπτυγμένε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Έμφαση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σ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τις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περιοχές με ειδικά γεωγραφικά ή δημογραφικά χαρακτηριστικά (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υποβαθμισμένα αστικά κέντρα,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απομακρυσμένα νησιά, ορεινές περιοχές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)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Ενίσχυση του ρόλου 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περιφερειακών και τοπικών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φορέων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και αυξημένη υποστήριξη για να αποκτήσουν τις αναγκαίες διαχειριστικές ικανότητε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Απλοποίηση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 τ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ων δομών </a:t>
            </a:r>
            <a:r>
              <a:rPr b="0" lang="el-GR" sz="2000" spc="-1" strike="noStrike">
                <a:solidFill>
                  <a:srgbClr val="16489f"/>
                </a:solidFill>
                <a:latin typeface="Myriad Pro"/>
              </a:rPr>
              <a:t>διαχείρισης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 και των διαδικασιών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6489f"/>
              </a:solidFill>
              <a:latin typeface="Myriad Pro Black SemiC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03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4e63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Σας ευχαριστώ για την προσοχή σας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2276280"/>
            <a:ext cx="7848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ΑΕΠ </a:t>
            </a:r>
            <a:r>
              <a:rPr b="1" lang="en-US" sz="16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  <a:ea typeface="Arial"/>
              </a:rPr>
              <a:t> αύξηση </a:t>
            </a:r>
            <a:r>
              <a:rPr b="1" lang="en-US" sz="1600" spc="-1" strike="noStrike">
                <a:solidFill>
                  <a:srgbClr val="16489f"/>
                </a:solidFill>
                <a:latin typeface="Myriad Pro"/>
              </a:rPr>
              <a:t>10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6489f"/>
                </a:solidFill>
                <a:latin typeface="Myriad Pro"/>
              </a:rPr>
              <a:t>%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στις λιγότερες αναπτυγμένες περιφέρειε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1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θέσεις εργασίας δημιουργήθηκαν στην ΕΕ, κυρίως σε μικρομεσαίες επιχειρήσει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υποστηρίχτηκαν </a:t>
            </a:r>
            <a:r>
              <a:rPr b="1" lang="fr-BE" sz="1600" spc="-1" strike="noStrike">
                <a:solidFill>
                  <a:srgbClr val="16489f"/>
                </a:solidFill>
                <a:latin typeface="Myriad Pro"/>
              </a:rPr>
              <a:t>1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,</a:t>
            </a:r>
            <a:r>
              <a:rPr b="1" lang="fr-BE" sz="1600" spc="-1" strike="noStrike">
                <a:solidFill>
                  <a:srgbClr val="16489f"/>
                </a:solidFill>
                <a:latin typeface="Myriad Pro"/>
              </a:rPr>
              <a:t>3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μικρομεσαίες επιχειρήσει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κατασκευάστηκαν 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4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700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χλμ.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αυτοκινητόδρομων και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 1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200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χλμ.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σιδηροδρόμων υψηλής ταχύτητα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489f"/>
                </a:solidFill>
                <a:latin typeface="Myriad Pro"/>
              </a:rPr>
              <a:t>10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άτομα που συμμετείχαν κάθε χρόνο σε δράσεις εκπαίδευσης και επαγγελματικής κατάρτιση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κατασκευάστηκαν εκσυγχρονισμένες εγκαταστάσεις επεξεργασίας υγρών αποβλήτων για επιπλέον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 23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κατοίκου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πρόσβαση σε καθαρό νερό για επιπλέον </a:t>
            </a:r>
            <a:r>
              <a:rPr b="1" lang="en-GB" sz="1600" spc="-1" strike="noStrike">
                <a:solidFill>
                  <a:srgbClr val="16489f"/>
                </a:solidFill>
                <a:latin typeface="Myriad Pro"/>
              </a:rPr>
              <a:t>20 </a:t>
            </a:r>
            <a:r>
              <a:rPr b="1" lang="el-GR" sz="1600" spc="-1" strike="noStrike">
                <a:solidFill>
                  <a:srgbClr val="16489f"/>
                </a:solidFill>
                <a:latin typeface="Arial"/>
              </a:rPr>
              <a:t>εκατ. κατοίκους</a:t>
            </a: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2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  <a:p>
            <a:pPr marL="66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97000"/>
            <a:ext cx="914400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Ι. Η Πολιτική Συνοχής</a:t>
            </a:r>
            <a:r>
              <a:rPr b="1" lang="en-GB" sz="3200" spc="-1" strike="noStrike">
                <a:solidFill>
                  <a:srgbClr val="16489f"/>
                </a:solidFill>
                <a:latin typeface="Myriad Pro"/>
              </a:rPr>
              <a:t> 2000-2006</a:t>
            </a: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 και 2007-20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στην Ε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Arial"/>
                <a:ea typeface="Arial"/>
              </a:rPr>
              <a:t>Συμμετοχή του ΕΤΠΑ και του ΤΣ στις δημόσιες επενδύσεις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2349360"/>
            <a:ext cx="446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6489f"/>
                </a:solidFill>
                <a:latin typeface="Arial"/>
              </a:rPr>
              <a:t>Υψηλά ποσοστά σε όλες τις περιφέρειες του στόχου σύγκλησης</a:t>
            </a: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6489f"/>
                </a:solidFill>
                <a:latin typeface="Arial"/>
              </a:rPr>
              <a:t>Πολύ υψηλό ποσοστό στην Ελλάδα </a:t>
            </a:r>
            <a:r>
              <a:rPr b="0" lang="en-US" sz="22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fr-BE" sz="2200" spc="-1" strike="noStrike">
                <a:solidFill>
                  <a:srgbClr val="16489f"/>
                </a:solidFill>
                <a:latin typeface="Myriad Pro"/>
              </a:rPr>
              <a:t> </a:t>
            </a:r>
            <a:r>
              <a:rPr b="0" lang="el-GR" sz="2200" spc="-1" strike="noStrike">
                <a:solidFill>
                  <a:srgbClr val="16489f"/>
                </a:solidFill>
                <a:latin typeface="Arial"/>
              </a:rPr>
              <a:t>&gt; 3</a:t>
            </a:r>
            <a:r>
              <a:rPr b="0" lang="fr-BE" sz="2200" spc="-1" strike="noStrike">
                <a:solidFill>
                  <a:srgbClr val="16489f"/>
                </a:solidFill>
                <a:latin typeface="Myriad Pro"/>
              </a:rPr>
              <a:t>0%</a:t>
            </a: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4e63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54520" y="2349360"/>
            <a:ext cx="3594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Ι. Η Πολιτική Συνοχής</a:t>
            </a:r>
            <a:r>
              <a:rPr b="1" lang="en-GB" sz="3200" spc="-1" strike="noStrike">
                <a:solidFill>
                  <a:srgbClr val="16489f"/>
                </a:solidFill>
                <a:latin typeface="Myriad Pro"/>
              </a:rPr>
              <a:t> 2000-2006</a:t>
            </a: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 στην Ελλάδα </a:t>
            </a:r>
            <a:r>
              <a:rPr b="1" lang="en-US" sz="3200" spc="-1" strike="noStrike">
                <a:solidFill>
                  <a:srgbClr val="16489f"/>
                </a:solidFill>
                <a:latin typeface="Myriad Pro"/>
              </a:rPr>
              <a:t>:</a:t>
            </a:r>
            <a:r>
              <a:rPr b="1" lang="el-GR" sz="3200" spc="-1" strike="noStrike">
                <a:solidFill>
                  <a:srgbClr val="16489f"/>
                </a:solidFill>
                <a:latin typeface="Myriad Pro"/>
              </a:rPr>
              <a:t> μερικά αποτελέσματα</a:t>
            </a:r>
            <a:endParaRPr b="0" lang="en-US" sz="32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1125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μεγάλα έργα μεταφορών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Εγνατία Οδός, Μετρό Αθηνών, Αττική Οδός, τμήματα της ΕΟ Αθήνας-Θεσσαλονίκης, τμήματα της σιδηροδρομικής γραμμής Αθήνας-Θεσσαλονίκης, λιμάνια Ηγουμενίτσας και Λαυρίου, αεροδρόμιο Θεσσαλονίκη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1125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</a:rPr>
              <a:t>έργα στον τομέα της διαχείρισης των υδατίνων πόρων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Ψυτάλλεια, Θεσσαλονίκη, αλλά και σε πιο μικρή κλίμακα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1125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2.200.000 άτομα επωφελήθηκαν προγραμμάτων κατάρτιση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1125"/>
              </a:spcAft>
              <a:buClr>
                <a:srgbClr val="16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περιορισμένες εμπειρίες με δράσεις και έργα σε πιο καινοτόμους τομείς </a:t>
            </a:r>
            <a:r>
              <a:rPr b="0" lang="en-US" sz="2000" spc="-1" strike="noStrike">
                <a:solidFill>
                  <a:srgbClr val="16489f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16489f"/>
                </a:solidFill>
                <a:latin typeface="Arial"/>
                <a:ea typeface="Arial"/>
              </a:rPr>
              <a:t> ανανεώσιμες πηγές ενέργειας, έρευνα και τεχνολογία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Οι προχωρημένοι …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Θεσσαλίας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–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Στερεά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λλάδας – Ηπείρου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42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%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Π Ανταγωνιστικότητα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: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53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Μακεδονίας – Θράκη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30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Κρήτης και Νήσων Αιγαίου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5 %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* Στερεά Ελλάδα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53 </a:t>
            </a:r>
            <a:r>
              <a:rPr b="0" lang="en-GB" sz="2000" spc="-1" strike="noStrike">
                <a:solidFill>
                  <a:srgbClr val="009999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** Νότιο Αιγαίο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69 </a:t>
            </a:r>
            <a:r>
              <a:rPr b="0" lang="en-GB" sz="2000" spc="-1" strike="noStrike">
                <a:solidFill>
                  <a:srgbClr val="ff0000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9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απορρόφηση κονδυλίω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5160" y="903240"/>
            <a:ext cx="7761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4e63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95520" y="123840"/>
          <a:ext cx="7273800" cy="866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23840"/>
                    <a:ext cx="7273800" cy="86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Οι προχωρημένοι …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Θεσσαλίας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–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Στερεάς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λλάδας – Ηπείρου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42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%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Π Ανταγωνιστικότητα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: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53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Μακεδονίας – Θράκη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  <a:ea typeface="Arial"/>
              </a:rPr>
              <a:t>30 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Κρήτης και Νήσων Αιγαίου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33cc"/>
                </a:solidFill>
                <a:latin typeface="Myriad Pro Black SemiCond"/>
              </a:rPr>
              <a:t>5 %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* Στερεά Ελλάδα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  <a:ea typeface="Arial"/>
              </a:rPr>
              <a:t>53 </a:t>
            </a:r>
            <a:r>
              <a:rPr b="0" lang="en-GB" sz="2000" spc="-1" strike="noStrike">
                <a:solidFill>
                  <a:srgbClr val="009999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** Νότιο Αιγαίο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69 </a:t>
            </a:r>
            <a:r>
              <a:rPr b="0" lang="en-GB" sz="2000" spc="-1" strike="noStrike">
                <a:solidFill>
                  <a:srgbClr val="ff0000"/>
                </a:solidFill>
                <a:latin typeface="Myriad Pro Black SemiCond"/>
              </a:rPr>
              <a:t>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000" spc="-1" strike="noStrike">
                <a:solidFill>
                  <a:srgbClr val="16489f"/>
                </a:solidFill>
                <a:latin typeface="Myriad Pro"/>
              </a:rPr>
              <a:t>απορρόφηση κονδυλίων 2 χρόνια πριν το τέλος της ΠΠ αλλά 4 χρόνια πριν το κλείσιμο των Ε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… 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οι μέτριοι …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Αττικής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6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ΕΠ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Προσπελασιμ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  <a:ea typeface="Arial"/>
              </a:rPr>
              <a:t>ό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τητα 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: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6,5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ΕΠ Ανθρώπινο δυναμικό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2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ΕΠ Εκπαίδευση και Δια Βίου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Μάθηση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1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ΠΕΠ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Δυτικής Ελλάδας – 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Πελοποννήσου – Ιονίων νήσων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  <a:ea typeface="Arial"/>
              </a:rPr>
              <a:t>: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9933"/>
                </a:solidFill>
                <a:latin typeface="Arial"/>
              </a:rPr>
              <a:t>24,4</a:t>
            </a:r>
            <a:r>
              <a:rPr b="0" lang="en-GB" sz="2000" spc="-1" strike="noStrike">
                <a:solidFill>
                  <a:srgbClr val="ff9933"/>
                </a:solidFill>
                <a:latin typeface="Myriad Pro Black SemiCond"/>
              </a:rPr>
              <a:t> %</a:t>
            </a: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9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απορρόφηση κονδυλίω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0920" y="2060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και αυτοί που έχουν σημαντικό περιθώριο βελτίωση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ΕΠ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Περιβάλλον και Αειφόρος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Ανάπτυξ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%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ΕΠ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Ψηφιακή σύγκλισ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%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ΕΠ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Διοικητική μεταρρύθμιση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	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9,7</a:t>
            </a:r>
            <a:r>
              <a:rPr b="0" lang="en-GB" sz="2400" spc="-1" strike="noStrike">
                <a:solidFill>
                  <a:srgbClr val="ff0000"/>
                </a:solidFill>
                <a:latin typeface="Myriad Pro Black SemiCond"/>
              </a:rPr>
              <a:t> %</a:t>
            </a: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  <a:p>
            <a:pPr marL="17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e63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-36360" y="119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6489f"/>
                </a:solidFill>
                <a:latin typeface="Myriad Pro"/>
              </a:rPr>
              <a:t>2007-2013 : </a:t>
            </a:r>
            <a:r>
              <a:rPr b="1" lang="el-GR" sz="2800" spc="-1" strike="noStrike">
                <a:solidFill>
                  <a:srgbClr val="16489f"/>
                </a:solidFill>
                <a:latin typeface="Myriad Pro"/>
              </a:rPr>
              <a:t>απορρόφηση κονδυλίω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nchwo</dc:creator>
  <dc:description/>
  <dc:language>en-US</dc:language>
  <cp:lastModifiedBy>perouge</cp:lastModifiedBy>
  <dcterms:modified xsi:type="dcterms:W3CDTF">2011-12-06T18:15:43Z</dcterms:modified>
  <cp:revision>639</cp:revision>
  <dc:subject/>
  <dc:title>Challenges</dc:title>
</cp:coreProperties>
</file>