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EAE073-640F-4CCE-9C12-D981496BAD3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C68082-0BAC-44A0-AE6C-56E42F0C725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F60F56-3C72-4743-A081-7B7C55D9236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EA75EC-56B7-424D-B9B6-7C2AACDB987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C6AF09-4E74-4949-8AE7-B2F7BE686D3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104523-7853-45B8-AB8C-D0EDB9EE17C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86C16B-C14D-47CF-9EAE-69749AA4FC0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42BA4B-73C0-403A-8231-13ABA39FEA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F876C1-7B97-4AF9-A2B3-A2C31CF8DD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67A28F-BE84-4CD7-81B6-E1DF7D29595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Zu Partnerorganisation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nterschiedliche Ländertypen beac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E0188E-5325-4875-8A55-DDB6AB62DD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8A6CB5-4F90-4B8C-85DF-15FCCFA8F7A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80E7A6-8B4B-44FE-88E6-AFB7AD16D30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51CE08-D66B-4100-912A-4DD6C05AD04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3988D0-45A5-44AC-97AE-CCB49B7FD4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DF8B03-96FB-4B8F-A22A-6A3291615A4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D631B2-1F01-4ACE-9B4E-FE2F846A9C0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9A3043-491F-4EDD-9402-3C4E476AE06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37EA03-24F1-4392-8911-F51B072E683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29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29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29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29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4" descr="1img 1bearbeitet"/>
          <p:cNvPicPr/>
          <p:nvPr/>
        </p:nvPicPr>
        <p:blipFill>
          <a:blip r:embed="rId2"/>
          <a:stretch/>
        </p:blipFill>
        <p:spPr>
          <a:xfrm>
            <a:off x="-36360" y="-361800"/>
            <a:ext cx="9448560" cy="86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6204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98108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98108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98108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5951520" y="61722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Black"/>
              </a:rPr>
              <a:t>E U V E N T U R E S </a:t>
            </a:r>
            <a:r>
              <a:rPr b="1" lang="de-DE" sz="1000" spc="-1" strike="noStrike">
                <a:solidFill>
                  <a:srgbClr val="808080"/>
                </a:solidFill>
                <a:latin typeface="Arial Black"/>
              </a:rPr>
              <a:t>C O N S U L T I N G</a:t>
            </a:r>
            <a:r>
              <a:rPr b="1" lang="de-DE" sz="11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1" lang="de-DE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Line 34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" name="Picture 45" descr="eu-logo"/>
          <p:cNvPicPr/>
          <p:nvPr/>
        </p:nvPicPr>
        <p:blipFill>
          <a:blip r:embed="rId3"/>
          <a:stretch/>
        </p:blipFill>
        <p:spPr>
          <a:xfrm>
            <a:off x="250920" y="33336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eck 3"/>
          <p:cNvSpPr/>
          <p:nvPr/>
        </p:nvSpPr>
        <p:spPr>
          <a:xfrm>
            <a:off x="0" y="0"/>
            <a:ext cx="9396360" cy="80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" name="Picture 3103" descr="Gerüst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684360" y="1071720"/>
            <a:ext cx="7991280" cy="45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 Box 3100"/>
          <p:cNvSpPr/>
          <p:nvPr/>
        </p:nvSpPr>
        <p:spPr>
          <a:xfrm>
            <a:off x="684360" y="1700280"/>
            <a:ext cx="80769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 Black"/>
              </a:rPr>
              <a:t>E U V E N T U R E 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Rectangle 3104"/>
          <p:cNvSpPr/>
          <p:nvPr/>
        </p:nvSpPr>
        <p:spPr>
          <a:xfrm>
            <a:off x="1908000" y="2757600"/>
            <a:ext cx="5832720" cy="3415320"/>
          </a:xfrm>
          <a:prstGeom prst="rect">
            <a:avLst/>
          </a:prstGeom>
          <a:solidFill>
            <a:srgbClr val="3333cc">
              <a:alpha val="5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6600"/>
                </a:solidFill>
                <a:latin typeface="Century Gothic"/>
              </a:rPr>
              <a:t>EU –Funding 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entury Gothic"/>
              </a:rPr>
              <a:t>for Local Authori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entury Gothic"/>
              </a:rPr>
              <a:t>&amp; Councillors/Greece </a:t>
            </a:r>
            <a:br>
              <a:rPr sz="4000"/>
            </a:br>
            <a:r>
              <a:rPr b="0" lang="en-US" sz="3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de-DE" sz="2400" spc="-1" strike="noStrike">
                <a:solidFill>
                  <a:srgbClr val="ff3300"/>
                </a:solidFill>
                <a:latin typeface="Century Gothic"/>
              </a:rPr>
              <a:t>6.12.2011 E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entury Gothic"/>
              </a:rPr>
              <a:t>www.euventures.e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395280" y="1773360"/>
            <a:ext cx="8496360" cy="4895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Thematic concentration (less objectices) /Link to EU-202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Clear and simplified rules /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mon rules for all fund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Focus on results (not activity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reater use of simplified cos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ossibility for multi-fund programmes combining ERDF, ESF and C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Preconditions for succes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Macro-economic conditiona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Cohesion Fonds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2d050"/>
                </a:solidFill>
                <a:latin typeface="Century Gothic"/>
              </a:rPr>
              <a:t>What will be new 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395280" y="1773360"/>
            <a:ext cx="8496360" cy="4895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CF: 1) Enviroment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mate Change, water, biodiversity, urban env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2) Transport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urop. Transport networks TEN-T, urban Transpor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Focus on sustainable urban develop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t least 5 % of ERDF resourc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Creation of urban development platfor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etworking between cities and exchanges on urban polic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Innovative actions for sustainable urban develop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bject to a ceiling of 0.2 % of the annual fund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Areas with specific natural or demographic featur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dditional allocation for outermost &amp; sparsely populated reg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Cohesion Fonds (CF) 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2d050"/>
                </a:solidFill>
                <a:latin typeface="Century Gothic"/>
              </a:rPr>
              <a:t>Green CF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395280" y="1773360"/>
            <a:ext cx="8496360" cy="4895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SF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4d"/>
                </a:solidFill>
                <a:latin typeface="Century Gothic"/>
              </a:rPr>
              <a:t>Green </a:t>
            </a: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ESF/ ERDF 2007-2014…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2d050"/>
                </a:solidFill>
                <a:latin typeface="Century Gothic"/>
              </a:rPr>
              <a:t>Green ESF / ERDF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feld 4"/>
          <p:cNvSpPr/>
          <p:nvPr/>
        </p:nvSpPr>
        <p:spPr>
          <a:xfrm>
            <a:off x="684360" y="1989000"/>
            <a:ext cx="792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RD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to strengthen economic, social and territorial cohesion in the EU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Obj 1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: Environment, Transport investment, energy invest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Obj 2: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Enviroment and risk prevention, energy efficency   invest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Obj 3: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Interreg: enviroment, sustainable urban invest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S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-is promoting employment in the E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een jobs (21 Mio Jobs -&gt; more 40 Mio in the next year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een education, skills and training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ample: architect -&gt; workers- &gt; electricia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-&gt; EU 2020 focus on green technolog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3333cc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0" t="21284" r="31717" b="6250"/>
          <a:stretch/>
        </p:blipFill>
        <p:spPr>
          <a:xfrm>
            <a:off x="0" y="-420840"/>
            <a:ext cx="9144000" cy="727884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3"/>
          <p:cNvSpPr/>
          <p:nvPr/>
        </p:nvSpPr>
        <p:spPr>
          <a:xfrm>
            <a:off x="431640" y="260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 </a:t>
            </a: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EIB: „Jessica“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hteck 3"/>
          <p:cNvSpPr/>
          <p:nvPr/>
        </p:nvSpPr>
        <p:spPr>
          <a:xfrm>
            <a:off x="0" y="0"/>
            <a:ext cx="9396360" cy="803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23250" t="30143" r="6249" b="9813"/>
          <a:stretch/>
        </p:blipFill>
        <p:spPr>
          <a:xfrm>
            <a:off x="0" y="333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114" name="Textfeld 3"/>
          <p:cNvSpPr/>
          <p:nvPr/>
        </p:nvSpPr>
        <p:spPr>
          <a:xfrm>
            <a:off x="611280" y="-36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 </a:t>
            </a: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EIB: „Jaspers“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324000" y="1700280"/>
            <a:ext cx="8496000" cy="4968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Application procedure 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Century Gothic"/>
              </a:rPr>
              <a:t>Important internet pages: calls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feld 16"/>
          <p:cNvSpPr/>
          <p:nvPr/>
        </p:nvSpPr>
        <p:spPr>
          <a:xfrm flipH="1" flipV="1" rot="10800000">
            <a:off x="754560" y="1692000"/>
            <a:ext cx="77770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entury Gothic"/>
              </a:rPr>
              <a:t>www…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OJ  C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://eur-lex.europa.eu/JOIndex.do?ihmlang=en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OJ  S: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http://ted.europa.eu/TED/misc/pageNotFound.do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Europeaid 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s://webgate.ec.europa.eu/europeaid/online-services/index.cfm?ADSSChck=1224746563160&amp;do=publi.welcome&amp;userlanguage=en 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EACEA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://eacea.ec.europa.eu/index_en.php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Other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://ec.europa.eu/justice_home/index.html ...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CF/ESF/ERDF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national ministry : www. …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7093080" y="1413000"/>
            <a:ext cx="1008000" cy="7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42920" y="1916280"/>
            <a:ext cx="7705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Title of the projec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Applicant/ </a:t>
            </a:r>
            <a:r>
              <a:rPr b="0" lang="de-DE" sz="1800" spc="-1" strike="noStrike">
                <a:solidFill>
                  <a:srgbClr val="000000"/>
                </a:solidFill>
                <a:latin typeface="Century Gothic"/>
              </a:rPr>
              <a:t>Coordinating  partn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Partners of the projec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Description of the projec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de-DE" sz="1800" spc="-1" strike="noStrike">
                <a:solidFill>
                  <a:srgbClr val="ff6600"/>
                </a:solidFill>
                <a:latin typeface="Century Gothic"/>
              </a:rPr>
              <a:t>Background, relevance (description of the problems…), target group, activities, results, European added value (if needed), work packag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Possible EU programmes, deadlines, timetable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Possible budget of project: revenue/expenditur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Project draft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16000" y="1300320"/>
            <a:ext cx="7559640" cy="39888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A good project draft should contain: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1476360" y="5300640"/>
            <a:ext cx="243216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Application of EU- funding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11280" y="1914480"/>
            <a:ext cx="8153280" cy="468324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art th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planning in time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watch the calls for proposal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larify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the internal capacities, resources and possibilit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Talk to your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</a:rPr>
              <a:t>bos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larify th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co-financing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om the begin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th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timetable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n mi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tact possibl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 partners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 time / build a networ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 enough time for the applicatio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ff66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Divide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the work to partner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ut a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 sign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n your door: “EU-department /office”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gage an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intern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o support your work 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11280" y="1341360"/>
            <a:ext cx="81374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Before the call is published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346040" cy="100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Rectangle 2"/>
          <p:cNvSpPr/>
          <p:nvPr/>
        </p:nvSpPr>
        <p:spPr>
          <a:xfrm>
            <a:off x="31680" y="-372960"/>
            <a:ext cx="276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647640"/>
                <a:tab algn="l" pos="900000"/>
                <a:tab algn="l" pos="1133640"/>
                <a:tab algn="l" pos="1511280"/>
                <a:tab algn="l" pos="1871640"/>
                <a:tab algn="l" pos="2268360"/>
                <a:tab algn="l" pos="2629080"/>
                <a:tab algn="l" pos="3024360"/>
                <a:tab algn="l" pos="3421080"/>
                <a:tab algn="l" pos="3781440"/>
                <a:tab algn="l" pos="4176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9280"/>
                <a:tab algn="l" pos="647640"/>
                <a:tab algn="l" pos="900000"/>
                <a:tab algn="l" pos="1133640"/>
                <a:tab algn="l" pos="1511280"/>
                <a:tab algn="l" pos="1871640"/>
                <a:tab algn="l" pos="2268360"/>
                <a:tab algn="l" pos="2629080"/>
                <a:tab algn="l" pos="3024360"/>
                <a:tab algn="l" pos="3421080"/>
                <a:tab algn="l" pos="3781440"/>
                <a:tab algn="l" pos="4176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Application of EU- funding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11280" y="1914480"/>
            <a:ext cx="8153280" cy="468324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Pay attention to requirements regarding 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applica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Check type of application forms (eForm or other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Read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Guidelines and evaluation grid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very careful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Answer all question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Follow application rules word by word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Do not  forget to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sign the original vers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Supporting documents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must be comple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Keep close contact  with partn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Deadlines</a:t>
            </a:r>
            <a:r>
              <a:rPr b="0" lang="de-DE" sz="20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are fix! Do not be too late!!!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11280" y="1341360"/>
            <a:ext cx="81374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Formal Hints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346040" cy="100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9"/>
          <p:cNvSpPr/>
          <p:nvPr/>
        </p:nvSpPr>
        <p:spPr>
          <a:xfrm>
            <a:off x="571680" y="1341360"/>
            <a:ext cx="835812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Content Hints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Application of EU- funding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989000"/>
            <a:ext cx="8356320" cy="4608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Check if your idea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fits 100% to the cal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Better: write your application with the guidelines asid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Mention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keywords!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(EU2020, LLL, …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Innovative topics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: Check old projects (compendium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Find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new topic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(newspaper, TV, journals) –Googl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Clear and simple discription,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no endless sentenc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Involve partners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in the activities , activly!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6600"/>
                </a:solidFill>
                <a:uFillTx/>
                <a:latin typeface="Century Gothic"/>
              </a:rPr>
              <a:t>Complexity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entury Gothic"/>
              </a:rPr>
              <a:t> (various logical  levels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) !!!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Define different activities and result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Write the summary at the end!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7020000" y="946080"/>
            <a:ext cx="1368360" cy="102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796000" y="5300640"/>
            <a:ext cx="74592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Content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16000" y="1341360"/>
            <a:ext cx="7343640" cy="4751640"/>
          </a:xfrm>
          <a:prstGeom prst="rect">
            <a:avLst/>
          </a:prstGeom>
          <a:solidFill>
            <a:srgbClr val="bfbfbf">
              <a:alpha val="43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General remarks on EU-fund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EU-projects for local authorities&amp;councillo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EU-Funds: Structural funds/ Action programmes 2007-2013 and 2014-202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Planning and submission of EU-projec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	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Q&amp;A 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152720" cy="76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42920" y="1916280"/>
            <a:ext cx="7705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 algn="ctr"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EU-application form (also eForm)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00080" y="1214280"/>
            <a:ext cx="7715160" cy="39888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Recurrent questions in EU-application for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Rechteck 4"/>
          <p:cNvSpPr/>
          <p:nvPr/>
        </p:nvSpPr>
        <p:spPr>
          <a:xfrm>
            <a:off x="1000080" y="1643040"/>
            <a:ext cx="7715160" cy="4972680"/>
          </a:xfrm>
          <a:prstGeom prst="rect">
            <a:avLst/>
          </a:prstGeom>
          <a:solidFill>
            <a:srgbClr val="d6d6f5"/>
          </a:solidFill>
          <a:ln w="9360">
            <a:solidFill>
              <a:srgbClr val="d6d6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Theme: titel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Summa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Questions regarding the applica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Funded projects in the pa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Background: Wh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Activities: Wha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Target group: Wh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Results: Wha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European added valu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Sustainabilit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Distribution of result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Indicato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ICT, Gende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Work packages 1., 1.1, 1.1.1., 1.1.2. …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Budget, supporting  document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5283360" y="3141720"/>
            <a:ext cx="346536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44" name="Rechteck 3"/>
          <p:cNvSpPr/>
          <p:nvPr/>
        </p:nvSpPr>
        <p:spPr>
          <a:xfrm>
            <a:off x="0" y="0"/>
            <a:ext cx="9396360" cy="803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rcRect l="22412" t="13406" r="45493" b="7844"/>
          <a:stretch/>
        </p:blipFill>
        <p:spPr>
          <a:xfrm>
            <a:off x="2916360" y="765000"/>
            <a:ext cx="4176720" cy="575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1357200" cy="10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End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77724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Century Gothic"/>
              </a:rPr>
              <a:t>Thank you very 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Century Gothic"/>
              </a:rPr>
              <a:t>  </a:t>
            </a:r>
            <a:r>
              <a:rPr b="1" lang="de-DE" sz="4000" spc="-1" strike="noStrike">
                <a:solidFill>
                  <a:srgbClr val="3333cc"/>
                </a:solidFill>
                <a:latin typeface="Century Gothic"/>
              </a:rPr>
              <a:t>much for your attention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2228b"/>
                </a:solidFill>
                <a:latin typeface="Century Gothic"/>
              </a:rPr>
              <a:t>   </a:t>
            </a:r>
            <a:r>
              <a:rPr b="1" lang="de-DE" sz="2400" spc="-1" strike="noStrike">
                <a:solidFill>
                  <a:srgbClr val="22228b"/>
                </a:solidFill>
                <a:latin typeface="Century Gothic"/>
              </a:rPr>
              <a:t>Questions: </a:t>
            </a: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Now </a:t>
            </a:r>
            <a:r>
              <a:rPr b="0" lang="de-DE" sz="2400" spc="-1" strike="noStrike">
                <a:solidFill>
                  <a:srgbClr val="ff6600"/>
                </a:solidFill>
                <a:latin typeface="Century Gothic"/>
              </a:rPr>
              <a:t>or </a:t>
            </a: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www.euventures.e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Text Box 2052"/>
          <p:cNvSpPr/>
          <p:nvPr/>
        </p:nvSpPr>
        <p:spPr>
          <a:xfrm>
            <a:off x="1571760" y="2956680"/>
            <a:ext cx="6095880" cy="1739880"/>
          </a:xfrm>
          <a:prstGeom prst="rect">
            <a:avLst/>
          </a:prstGeom>
          <a:solidFill>
            <a:srgbClr val="3333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    </a:t>
            </a: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Some common Critical Comments….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285840" y="1214280"/>
            <a:ext cx="3709800" cy="1494000"/>
          </a:xfrm>
          <a:prstGeom prst="wedgeRoundRectCallout">
            <a:avLst>
              <a:gd name="adj1" fmla="val -38620"/>
              <a:gd name="adj2" fmla="val 69958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Submitting a proposal is to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much work in advanc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4067280" y="2781360"/>
            <a:ext cx="2160360" cy="1512720"/>
          </a:xfrm>
          <a:prstGeom prst="wedgeRoundRectCallout">
            <a:avLst>
              <a:gd name="adj1" fmla="val -634"/>
              <a:gd name="adj2" fmla="val 67981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U supports only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xotic project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1187280" y="3141720"/>
            <a:ext cx="2514600" cy="1066680"/>
          </a:xfrm>
          <a:prstGeom prst="wedgeRoundRectCallout">
            <a:avLst>
              <a:gd name="adj1" fmla="val -9282"/>
              <a:gd name="adj2" fmla="val 80652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Deadlines are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too shor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5508720" y="4437000"/>
            <a:ext cx="3390840" cy="1438200"/>
          </a:xfrm>
          <a:prstGeom prst="wedgeRoundRectCallout">
            <a:avLst>
              <a:gd name="adj1" fmla="val 31143"/>
              <a:gd name="adj2" fmla="val -99342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That´s a jungle and fro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Brussels we get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no suppor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4140360" y="1341360"/>
            <a:ext cx="4824360" cy="1150920"/>
          </a:xfrm>
          <a:prstGeom prst="wedgeRoundRectCallout">
            <a:avLst>
              <a:gd name="adj1" fmla="val 5541"/>
              <a:gd name="adj2" fmla="val 63888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We do not know where to find the cal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or do not understand th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1187280" y="4581360"/>
            <a:ext cx="3276720" cy="1828800"/>
          </a:xfrm>
          <a:prstGeom prst="wedgeRoundRectCallout">
            <a:avLst>
              <a:gd name="adj1" fmla="val -25097"/>
              <a:gd name="adj2" fmla="val 62500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U supports only big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projects! We are a smal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Village or city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BUT …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8560" y="2636640"/>
            <a:ext cx="6985080" cy="331308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txBody>
          <a:bodyPr anchor="t">
            <a:normAutofit fontScale="91000"/>
          </a:bodyPr>
          <a:p>
            <a:pPr lvl="2" marL="1040040" indent="-20772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entury Gothic"/>
              </a:rPr>
              <a:t>864 billion EUR    2007-201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972,2 billion EUR 2014-202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Structural Fund: 346 (</a:t>
            </a:r>
            <a:r>
              <a:rPr b="1" lang="de-DE" sz="2800" spc="-1" strike="noStrike">
                <a:solidFill>
                  <a:srgbClr val="000000"/>
                </a:solidFill>
                <a:latin typeface="Century Gothic"/>
              </a:rPr>
              <a:t>376</a:t>
            </a: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) billion E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Greece: 20,4 billion E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(879 Mio EUR GR  -&gt; end 2013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3780000" y="1197000"/>
            <a:ext cx="165384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entury Gothic"/>
              </a:rPr>
              <a:t>How to prepare a good European Project?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68" name="Text Box 1039"/>
          <p:cNvSpPr/>
          <p:nvPr/>
        </p:nvSpPr>
        <p:spPr>
          <a:xfrm>
            <a:off x="395280" y="1187280"/>
            <a:ext cx="828036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Keep in mind 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779400" cy="78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3"/>
          <p:cNvSpPr/>
          <p:nvPr/>
        </p:nvSpPr>
        <p:spPr>
          <a:xfrm>
            <a:off x="395280" y="1628640"/>
            <a:ext cx="8280360" cy="522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Legal basis necessary: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EU treaty/budget line/special call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7f7f7f"/>
                </a:solidFill>
                <a:latin typeface="Arial"/>
              </a:rPr>
              <a:t>Subsidiarity principle! -&gt; EU must have the mandate to act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lways include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EU2020 strategy („ EU Bible“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No money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without calls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(exceptions: Structural funds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ff0000"/>
                </a:solidFill>
                <a:latin typeface="Arial"/>
              </a:rPr>
              <a:t>Greec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 Action plan 2011, 100 extra projects, simplified procedure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Cofinancing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between 50-85%, seldom </a:t>
            </a:r>
            <a:r>
              <a:rPr b="0" lang="de-DE" sz="2100" spc="-1" strike="noStrike">
                <a:solidFill>
                  <a:srgbClr val="ff0000"/>
                </a:solidFill>
                <a:latin typeface="Arial"/>
              </a:rPr>
              <a:t>(exception Greece 95%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Nearly all programmes relevant for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local authorities and citie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European dimension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(also structural fund if  -&gt;  10% transnational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ustainability, Innovation, Transfer, Networking, Best Practic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No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alibi partners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(„Cosmetic Partners“)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–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relevant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Stakeholder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ake your project </a:t>
            </a:r>
            <a:r>
              <a:rPr b="1" lang="de-DE" sz="2100" spc="-1" strike="noStrike">
                <a:solidFill>
                  <a:srgbClr val="00664d"/>
                </a:solidFill>
                <a:latin typeface="Arial"/>
              </a:rPr>
              <a:t>„green“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Bio products, green public transport …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Talk to relevant people &amp; institutions about your project!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entury Gothic"/>
              </a:rPr>
              <a:t>How to prepare a good European Project?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2000" cy="4608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36000" rIns="36000"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7f7f7f"/>
                </a:solidFill>
                <a:latin typeface="Arial"/>
              </a:rPr>
              <a:t>Lifelong Learning LLL! (from birth to death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al protection and sustainability! New energy technologi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7f7f7f"/>
                </a:solidFill>
                <a:latin typeface="Arial"/>
                <a:ea typeface="Arial"/>
              </a:rPr>
              <a:t>Mobility: Vocational and new technologies, green job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ICT: new smart mobile technology (smartphones, ipad…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Demographic change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Century Gothic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eople with disabilities, health, well-be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  <a:ea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  <a:ea typeface="Arial"/>
              </a:rPr>
              <a:t>ECVET/ EQF/ESCO (Classification of skills and competences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ctive Citizenship in Europa (be part of Europe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Pre-school education (1+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spirit for young peopl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Languages (1+2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European youth policy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Working together: Networks, Clouds, …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solidFill>
            <a:srgbClr val="191966"/>
          </a:solidFill>
          <a:ln w="1260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Refer to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 “hot”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U topics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2163960" cy="16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19640" y="1773360"/>
            <a:ext cx="3024000" cy="508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Services              </a:t>
            </a:r>
            <a:r>
              <a:rPr b="0" lang="de-DE" sz="1600" spc="-1" strike="noStrike">
                <a:solidFill>
                  <a:srgbClr val="7f7f7f"/>
                </a:solidFill>
                <a:latin typeface="Century Gothic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Supplies              </a:t>
            </a:r>
            <a:r>
              <a:rPr b="0" lang="de-DE" sz="1600" spc="-1" strike="noStrike">
                <a:solidFill>
                  <a:srgbClr val="7f7f7f"/>
                </a:solidFill>
                <a:latin typeface="Century Gothic"/>
              </a:rPr>
              <a:t>possibl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work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Tender procedur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TED </a:t>
            </a: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Tenders Electronic Dai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&lt; 25.000 EUR not published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25.000 – 60.000 EUR may b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&gt; 60.000 EUR must be publishe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3 procedures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Open: 1 step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Restricted: 2 steps, some CEI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Negotiated: direct  with EC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4000" y="1773360"/>
            <a:ext cx="3024000" cy="508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entury Gothic"/>
              </a:rPr>
              <a:t>Programmes/Fu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  </a:t>
            </a: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Call for proposals (grants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  </a:t>
            </a: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Call for tender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  </a:t>
            </a: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Call for expression of interest (CEI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Programmes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available for nearly any EU topic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Mostly: 50-85% cofinanc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More and more online application forms </a:t>
            </a: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(eForm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entury Gothic"/>
              </a:rPr>
              <a:t>-&gt; see paper with list of EU programmes for local authoriti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Century Gothic"/>
              </a:rPr>
              <a:t>EU Funds/Procurement/ State Aid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24000" y="1341360"/>
            <a:ext cx="85690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3 different sorts of  EU-financial suppor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516720" y="1773360"/>
            <a:ext cx="2376360" cy="508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State Ai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National State aid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entury Gothic"/>
              </a:rPr>
              <a:t>not EU wide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-&gt; generally forbidden,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But exception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-&gt; Approval by EC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ontact national ministry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NOT EU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Geschweifte Klammer rechts 8"/>
          <p:cNvSpPr/>
          <p:nvPr/>
        </p:nvSpPr>
        <p:spPr>
          <a:xfrm>
            <a:off x="5076720" y="2492280"/>
            <a:ext cx="44640" cy="865440"/>
          </a:xfrm>
          <a:custGeom>
            <a:avLst/>
            <a:gdLst>
              <a:gd name="textAreaLeft" fmla="*/ 0 w 44640"/>
              <a:gd name="textAreaRight" fmla="*/ 16200 w 44640"/>
              <a:gd name="textAreaTop" fmla="*/ 1080 h 865440"/>
              <a:gd name="textAreaBottom" fmla="*/ 864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16200" y="10800"/>
                  <a:pt x="21600" y="10800"/>
                </a:cubicBezTo>
                <a:cubicBezTo>
                  <a:pt x="162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564000" y="1989000"/>
            <a:ext cx="3672000" cy="40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EU wide action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programmes/ activit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LLP,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Youth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, Spor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(-&gt; 2014: Erasmus  for all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Life+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CIP/7RFP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-&gt;Horizont 200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urope for citizens :</a:t>
            </a: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Town </a:t>
            </a: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 Twin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ff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Culture -&gt;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reative Europ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Justice &amp; Home affai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24000" y="1989000"/>
            <a:ext cx="3168360" cy="40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Structural Funds +Other Instrume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1.European Regional Development Fund  (ERDF)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+Interreg+ Urbact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2. European Social Funds (ESF)-&gt; 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+ ESF national programm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_______________________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Cohesion Fund 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(CF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EAFRD -&gt;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 Lead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Century Gothic"/>
              </a:rPr>
              <a:t>EU Programmes 2007-2013 …</a:t>
            </a:r>
            <a:r>
              <a:rPr b="0" lang="de-DE" sz="2400" spc="-1" strike="noStrike">
                <a:solidFill>
                  <a:srgbClr val="ff0000"/>
                </a:solidFill>
                <a:latin typeface="Century Gothic"/>
              </a:rPr>
              <a:t>2014-2020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6113520"/>
            <a:ext cx="3168360" cy="77148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National priorit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National implementatio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Control by EC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571920" y="6094440"/>
            <a:ext cx="3714840" cy="79056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European component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Submission in Brussels (exceptions possible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24000" y="1413000"/>
            <a:ext cx="85690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Structure of EU Programmes for LA in Gree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308720" y="1989000"/>
            <a:ext cx="1584360" cy="40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Third Countr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IP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NP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DCI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(NSA &amp; LA, Env., InviP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IDH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D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7346880" y="6099120"/>
            <a:ext cx="1582920" cy="78588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Century Gothic"/>
              </a:rPr>
              <a:t>Europea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Century Gothic"/>
              </a:rPr>
              <a:t>+ national priorit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llipse 2"/>
          <p:cNvSpPr/>
          <p:nvPr/>
        </p:nvSpPr>
        <p:spPr>
          <a:xfrm>
            <a:off x="6659640" y="5084640"/>
            <a:ext cx="1584360" cy="151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Textfeld 3"/>
          <p:cNvSpPr/>
          <p:nvPr/>
        </p:nvSpPr>
        <p:spPr>
          <a:xfrm>
            <a:off x="3348000" y="3860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85% CoF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feld 4"/>
          <p:cNvSpPr/>
          <p:nvPr/>
        </p:nvSpPr>
        <p:spPr>
          <a:xfrm>
            <a:off x="2843280" y="422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60% CoF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Textfeld 5"/>
          <p:cNvSpPr/>
          <p:nvPr/>
        </p:nvSpPr>
        <p:spPr>
          <a:xfrm>
            <a:off x="34923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50 % CoF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Rechteck 6"/>
          <p:cNvSpPr/>
          <p:nvPr/>
        </p:nvSpPr>
        <p:spPr>
          <a:xfrm>
            <a:off x="0" y="0"/>
            <a:ext cx="9396360" cy="796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9045" t="26378" r="32845" b="16531"/>
          <a:stretch/>
        </p:blipFill>
        <p:spPr>
          <a:xfrm>
            <a:off x="144360" y="1052640"/>
            <a:ext cx="918072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EU Map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" y="6203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920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entury Gothic"/>
              </a:rPr>
              <a:t>LDR: 85%,   TR: 60%   MDR: 50% Co-financing  //// TR get 2/3 of fun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Ellipse 10"/>
          <p:cNvSpPr/>
          <p:nvPr/>
        </p:nvSpPr>
        <p:spPr>
          <a:xfrm>
            <a:off x="6443640" y="4653000"/>
            <a:ext cx="151308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6:56:02Z</dcterms:created>
  <dc:creator>c</dc:creator>
  <dc:description/>
  <dc:language>en-US</dc:language>
  <cp:lastModifiedBy>Euventures</cp:lastModifiedBy>
  <cp:lastPrinted>2003-11-04T15:08:00Z</cp:lastPrinted>
  <dcterms:modified xsi:type="dcterms:W3CDTF">2011-12-05T08:31:58Z</dcterms:modified>
  <cp:revision>1185</cp:revision>
  <dc:subject/>
  <dc:title>E u r o p ä i s c h e  Fördermittel  - eine Einführung</dc:title>
</cp:coreProperties>
</file>